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2A4-05FF-46CA-A23A-9B550D4D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A59-ED00-4E6F-91D9-677738D2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3CE-08F3-4073-9569-B2756069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A86-90C5-4057-9DF8-42792CB0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82BC-DCA5-4D7B-888C-66D0BABE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8D8D-0763-4792-AEBB-F25263BC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5155-B1A0-4988-91D0-E3235D15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EF8-68B4-49CC-B451-174EAC0F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E693-7E30-45B8-B586-09162F5D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7C9F-0748-4E84-A278-5034EEF0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866A-F073-4A4D-8E9E-FD3E05E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561-629F-4CD7-8FF5-E133E2FE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B6D3-1B73-43B9-8D47-CAE3271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A46-5F7E-43D7-80B2-728E75A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7743-9059-46FF-9FE1-FEE0710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3E2-2D6C-4F5F-A7A2-EC9DBEF2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C7DE-0C8D-4527-972F-A409C9DD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AB747-7122-4436-B38F-24D47A25A0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44DD7-1F16-4E65-9541-E598BF4516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97FAC-6EBF-4909-800E-16A649AF7E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84BAA-FD8D-4981-A5AA-D581E1122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5716A-0867-4B01-924D-3B00F63C2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416-0485-454F-956D-063C9B79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6231F-A8D2-4206-9EF1-BB20960B52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7DE0A-5AF1-4592-A1E8-FD437BDBF3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048487-C999-4E64-A02D-EF5599B2CB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931D9-5877-40A0-8575-FCE44E5558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8293B-9470-482A-9FDE-622CD32BE6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DB1BF-1B42-497D-8288-E5EBCB9F95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51572-7C59-4AD6-BD0C-2BCEE6A7B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8EB-87D7-4D33-AB1C-8F7678C1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C70-19B4-4D05-9EA9-29C987F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0E3-3AAD-4E0D-A8D4-FE7C58E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821-58DC-4F45-BC33-7115E0B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11E-8F78-43E4-8B3B-F83679D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641-7045-4B70-B379-74C20A35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004F-373F-49F3-B6D0-EBBD14C11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6521-7E7C-4CB9-81C9-CCFA1110C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6A2-E3D1-4352-82DE-4FDC3BDBD95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НАКОН ФРАКТУРА КОСТИЈУ ГОРЊЕГ ЕКСТРЕМИТЕТ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9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0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2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Зарастањ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И СЕ У ТРИ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АЗА ИНФЛАМ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ФАЗА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ФАЗА 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е нису потпуно одвојене, већ се преклап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820C-FE1C-4DC2-BC2A-EC89454F37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ФАЗА ИМОБИЛИЗАЦИЈ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РЕХАБИЛИТАЦИЈА ПО СКИДАЊУ ИМОБИЛИЗАЦИЈ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7794-EED0-4440-9D57-D46FA051FB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АЗА ИМОБИЛИЗ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РЕПОЗИЦИЈ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2362320"/>
            <a:ext cx="3581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нзијом (кожна, скелетна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ративно (крвава репозиција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2. ИМОБИЛИЗАЦИЈА РЕПОНИРАНОГ ПРЕЛО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7960" y="22096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ГИПСА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9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ОПЕРАТИВНА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СТЕОФИКСАЦИЈА (ОСТЕОСИНТЕЗ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ПОЉАШЊА ФИКСАЦИЈА ФРАГМЕНАТА АПАРАТО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РТРОПЛАСТ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РТРОДЕЗ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СТЕОТОМ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РЕСЕКЦИЈА К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МПУТАЦ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CF45-5A15-467A-9798-D481CE8FAA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АЗА ИМОБИЛИЗАЦИЈЕ</a:t>
            </a: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–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РА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А. За време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мулација остеоген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компл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Б. Након скидања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ОП у 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оординациј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брзин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опште и локалне издж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425-87D5-45CE-AD4A-06BA819C4E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тимулација остеогенезе физикалним агенси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СТАТИЧКЕ КОНТРАКЦИЈЕ ИМОБИЛИСАНИХ МИШИЋ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са тонусом који је најмање 30% од максималног тонус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иже се ублажавање последица инактивите, превниција компликација и стимулација остеогенез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АЧ ОСЛОНАЦ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10% ТТ-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имулација пиезоелектричним ефект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акција мишића и мобилизација суседних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ИФ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90-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ИМП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реко гипсане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УВ 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ЛАСЕРОТЕРАП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566A-1DAA-4B1D-AA21-1D58D6A31F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ПО СКИДАЊУ ИМОБИЛИЗ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имобилизациона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контракту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активитет довод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за трофичких и дегенеративних промена ЛМС услед изостанка еферентних импул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ремећаја координације покрета одн дискинезије услед инхибиције у ЦНС-у, у условима изостанка аферетних проприоцептивних импул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1373-9B6F-4794-949F-6B12493FC9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-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Терм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80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1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масажа (1-3 ми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е диферетне зоне- парафин, ИР, КТ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циркулацију:вазодилатација (активна хиперемија), долази до убрзања цирукулације (бржи прилив артеријске, брже отицање венске и лимф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везивно ткиво- повећава истегљивост колагена (зглобова, тетива, ожиљно везивно ткив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због ових разлога доводи до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иканости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0A2-F8AF-45DA-BB35-E3DB0068019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–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лектр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поненцијалн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5806-981C-4F7A-A80B-C5D33D92FC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ГНЕТ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.поље ниске фреквенције:смањује оток, инфламацију, бол и стимулише остеогенезу, код конт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ура, побољшава микроциркулацију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0 mT, 50Hz, 30 min)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.поље високе фреквен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ЛАСЕ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иостимулативни ласер, аналгетско и антиинфламаторног дејства. Примењује се на акупунктурне тачке ил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кенирајући начи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W, f 1000Hz, 3 min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 тач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аберу се 4-5 тачака и зраче се по 3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CDC2-1EB9-4AAA-BD3D-36E6D5A999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УЛТРАЗВУ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 0,8 W/cm², 5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улсни и континуирани Уз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јство: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еханичк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микромасажа ткива на ћелијском нивоу), мења се пропу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љивост мембране (повећавају се дифузиони процеси и метаболизам) и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мичко дејств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услед апсорпције Уз Е (значајно за савлађивање контрактур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УВ ЗРАЦИ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се локално биодозом, и сваког дана се повећа за једну биодоз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436F-85C1-4043-AEEF-B8CCD1B171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релом к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инише се као потпуни или непотпуни прекид континуитета коштаног ткива, проузрокован силом која превазилази границу његове природне еластич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може бити потпун, с прекидом континуитета периоста или непотпун, кад је периост очу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 обзиром на стање коже изнад места прело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отворени преломи (кожа оштећена,склоност ка инфекцији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затворени преломи (кожа интактн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75C-22EA-4B67-ACC1-9FF8178067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ahoma"/>
              </a:rPr>
              <a:t>КИНЕЗИТЕРАПИЈА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-АКТИВ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-ВЕЖБЕ ИСТЕЗАЊ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татич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Балистич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НФ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- Пасивне вежбе се не препоручу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ahoma"/>
              </a:rPr>
              <a:t>ХИДРОТЕРАПИЈА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тушеви, подводне масаже, вртложне купке, бисерне када, угљено киселе и сулфоводоничне купк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аветује се у комбинацији са КТХ- хидрокинези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414-9042-4AD2-B0B3-C55AEFDC33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МАСАЖ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је дозвољена у пределу кал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њује се проксимално и дистално ради побољшања периферне циркул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ВАКУСАК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хипобарична терапија. На интактну кожу, навлаке према локализацији (капа, рука, чизма), подпритисак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0,3-0,4 bara, 6-20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РАДНА ТЕРАП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повећања МОП, побољшања коорднинације, повећења локалне и опште издрж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730F-431B-4B88-AB15-0990B1612C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40458c"/>
                </a:solidFill>
                <a:latin typeface="Tahoma"/>
              </a:rPr>
              <a:t>Преломи надлакта и рамен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Кости регије рам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176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патиц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capul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длактиц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umerus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ључна кост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lavicul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е кости су спојене меким ткивом (зглобна капсула, лигаменти,тетиве И мишићи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CA76-EC4D-4B09-9AAE-A6157D9BCF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рам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горњег дела надлакатне кости се називају и преломи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ни су специфични јер се на њему припајају мишићи ротаторне манжетне,који су битни за функцију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928B-A393-4FD1-AFD5-C0B4B77B4D0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остоперативна имобилиз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перативна имобилизација траје д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 недељ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 зависи од низа фактор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од типа прелом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врсте операциј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степена постигнуте стабилности реконструисан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старости пацијент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. сарадње пацијента и оператора,односно терапеута ит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833B-6D22-4399-A041-626F5ED9A7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 кључне кост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место прелома је граница средње и спољне трећи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зроци настан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настаје деловањем индиректне силе, (пад на испружену руку или, што је знатно чешће, пад на раме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обраћајне несреће,  ретко при неким спортским активнос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ACD0-7264-4206-9964-95B2F392D5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елом кључне кост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је прелом у дечјој доб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одраслих се особа ређе јавља и д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чешћи у мушкарац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обраћајни трауматизам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д с мотоцик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42AE-5C4B-4440-A25B-D505243F45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минира јак бол, а повређену  руку подржавају другом рук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и у рамену готово су неизводиви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ујне крепитације при покре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овањем мишића се одиже преломљени део кључне кости који је смештен ближе грудној кости према горе и уназад па је увек уочљива избочина на месту прелома која је окружена крвним подлив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D18-E61E-45DA-9F68-99785EC4A3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 је са стране преломљене кључне кости спуштено, а рука је прибијена уз тел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бол у пределу кључн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жа је отечена и подливена крвљ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 покретима могу се чути креп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када, преломи могу бити отворени, са фрагментима кости који вире кроз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е су удружене повреде ребара, лопатице, као и повреде околних структура (поткључна артерија, вена и околни нерви), као и повреде плућног ткива са компликацијама (пнеумоторакс и хемоторак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F4E-EA02-44DA-B331-9ECA12BD7C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Отворени прелом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к отвореног прелома је пробијање коже оштрим уломком кости или деловања јаких сила споља која директно оштећују кожу, поткожно ткиво, мишиће и саму к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саобраћани т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матизам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4DCD-8F50-439C-BF91-B98A02B45C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3772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довољна да се постави дијагноза прелома кључ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пунски се може начинити редгенски преглед ове регије који потврђује дијагноз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1F99-E8E9-46B3-B94C-7B5640D7EF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кључне кости се у највећем броју случајева лече </a:t>
            </a: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неоперативном методом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а подразумева пласирање завоја у облику ” 8 ” који се носи око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 недељ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еративно лече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29F2-C0FF-40BF-9AFA-6A50B1D021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лопатиц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520" y="17521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лопатице су често удружени са повредама ребара и хумеруса, повреда плућног ткива, повредама великих крвних судова, можданих структура и неких унутрашњих орг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е на ванзглобне и унутарзглоб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е доћи до прелома тела лопатице, гребена, акромиона, гленоидног врата и гленоидне ја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6A2A-D67F-4B69-A567-66518C0FBE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исуство бола у пределу леђа, или раменог зглоб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исуство отока, хематома и осетљивости регије леђ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раме може да буде спуштено у односу на здра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окрети у зглобу рамена су отежани, онемогућени и праћени јаким боло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и прегледу су присутне крепитације и покретљивост делова лопатиц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огућа је повреда ребара која је удружена са болним удисајем и издисаје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јопаснија компликација прелома лопатице је повреда плућног паренхима са крварењем и појавом пнеумоторакс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огућа је повреда неуроваскуларних структура са моторним и сензорним дефицитима руке, као и поремећајем циркулације који може угрозити читаву рук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79F1-254A-40E4-BC32-B15F69AC36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довољна за постављање дијагнозе прелома лопат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инитивна дијагноза се поставља на основу рендгенског снимка из више положа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35FC-E894-481A-B734-D6BCAFB8DE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 је најчешће конзервативна и подразумева пласирање завоја који се носи до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6 недељ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да преломи потпуно зараст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лече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59F0-1D9E-4E37-94CD-6A3E17811FD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надлакатне кост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рећу се релативно често у свакодневном трауматолошком ра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. преломе проксималне трећин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. преломе средње трећине (дијафизе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. преломе дисталне трећине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су преломи дијафи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2D9E-9220-4AEA-82FB-6706FA90D7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проксималне трећине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38080" y="182880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прелом хируршког врата надлактице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и је најчешћи од свих прело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прелом анатомског вр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елом великог и малог туберкулум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прелом главе хумеру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2C6-FBBA-4BA0-9346-ACD59AE2BC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проксимално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г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окрајка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5238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у најчешће падом на руку, а ређе деловањем директне силе (ударац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54B-90E7-4E6D-A311-9ACDECBE22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потичу од локалног хематома и стабилности преломних улома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Цело раме је отечено и бо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стабилних прелома покрети у рамену се деломично изводе уз одређени напор, уз јаку болно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нестабилних прелома, покрети у раменом зглобу се не могу изводити, оток је велики и болност је израж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ка тада често виси уз тело и изгледа као да је болесник не осећ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2740-C874-4EBC-B410-5E1309F51B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дела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ТС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ОЛОШ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РЕС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ОБЛИКУ преломне лин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СИ;   б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РАЛНИ;  ц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ДУЖНИ;   д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ПРЕ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3D37-BF35-43C2-8362-24F955F26F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и клиничком сли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9D41-C376-4561-805E-3B7CDA48DD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зервативне мето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тога се одмах почиње с физикалним терапијом у смислу повећања покретљивости и спречавања развоја контрактура рам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2E1-9160-411E-B4F6-15D619F948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средње трећине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испад функције надлактице, а често се види и деформитет у средњем делу, хема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утан је јак бол, са трњењем и слабошћу руке. А/П су изразито бол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 покретима присутне су крепит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9D67-45DF-4005-8BEE-82270BC10C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, клинич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у два сме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опходно је узимања неуролошког и васкуларног статуса повређене ру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о долази до повреде радијалног нер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сним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0EB4-D145-40F8-A731-8DA61D3363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зервативно и оператив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0A1C-22C2-4204-8D7E-E2D8571809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довном рендгенском контролом се спречава превелико истезање уломака и могући настанак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псеудоартроз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ао једне од могућих комплик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758C-24B2-4ACA-B018-550C1DFAEF7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дисталне трећине на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ста су чести и најчешће настају падом на испружену руку или падом на савијени лака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жност им се придаје због сложености анатомско-зглобних односа трију костију и три зглоба у лакту (узглобљење хумеруса, радијуса и улне у сложеном лакатном глобу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мо их н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1.екстраартикуларн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2.интраартикуларне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прелом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44E7-21E1-476A-8604-CD593893E2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176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разит и нагло настао оток лакта, праћен јаком болношћу и немогућношћу било каквих покрета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есници здравом руком придржавају сломљену руку и заузимају присилни положај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 и хематом због немогућности ширења у околно ткиво врши притисак на неуроваскуларне структуре, повећава се болност и може довести до настанка компартмент синдрома дистално од прело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9FA-1D0C-4A32-AEDE-14A6F393CE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г: анамнеза, клиничке и рендгенске сли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2B8E-5969-40A9-875F-0F7BAD404F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конзервативно, и 2. опера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зервативне методе лечења подразумевају само имобилизацију, репозицију одмакнутих коштаних уломака и имобилизацију као и разне методе кожне или коштане екстенз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без дислокације лече се само имобилизацијом 4–6 недеља уз редовне рендгенске контро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деце имобилизација траје 2–3 недеље зависи од узраста де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4C2-3F6E-47AA-BFBE-853E67DDFF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Врсте прелом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фисура или напрсну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убпериост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коминутив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мултифрагментар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вишестру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интраартикулар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луксац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прелом “зелене гранчице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авулз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епифизиоли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195-48FE-430E-9CB0-921B90843D7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40458c"/>
                </a:solidFill>
                <a:latin typeface="Tahoma"/>
              </a:rPr>
              <a:t>ПРЕЛОМИ КОСТИЈУ ПОДЛАКТИЦЕ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Кости подлактиц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3772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жбиц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радиус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кат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ст (ул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5FD-87C5-4E09-A9B9-6A67A6CAF8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проксималне трећине подлакт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главице и врата радијус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нтегиа прелом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е олекранона ул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е процесус короноидеус-а улна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мостални преломи проксималне трећи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56A4-CB76-4567-9252-75FDB65D6D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дијафизе лакатне к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услед директног удара у подруч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лакт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и: оток, деформације и бол и ограничену покрет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једноставног прелома без дислокације довољно је конзервативно лечење, репозиција и имобилизациј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лактица се имобилизује у савијеном положају руке уз трајање имобилизације између 4 до 6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2044-90E8-4E3E-83FC-E7E7298E0D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Прелом главице радијус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главице радијуса сматра се најчешћим преломом у подручју проксималног дела 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настаје при паду на испружену руку или када је рука лагано флектирана или екстендир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EF2B-CF31-4625-A0BC-D2AD0CF7CB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главице радиј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61760" y="16002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линичка сли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осетљивост на палпацију, болност при покретима у лакту, ограничена покретљивост, понекад присутност чујних крепитација при покушају покретањ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ечењ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је конзервативно, имобилизацијом у подручју лакта под углом од 90° у трајању од 3 недељ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 завршеној имобилизацији неопходна је спровођење физиканог лечења  ради функционалног опорав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може бити и оператив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275-7A42-4A45-9A6D-84AC329A3E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 дисталног дела радиј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дни су од најчешћих прелома уопште са око 15% свих прелома и најчешће се налазе код одраслих особа, али се могу наћи и код млађих особа и код де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се најчешће налази на око 3цм изнад зглоба руч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B8E6-5272-4B8D-8C05-D8C90DBD6B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радијуса на типичном месту -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FRL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77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да у најучесталије преломе у човека уопш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ј прелом настаје падом на испружену руку и с дланом у улнарној абдукц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н обухвата дистални део радијуса који је удаљен од 1–4 цм од зглобне капсу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ично долази до дислокације дисталног уломка према дорзално. Ово је типичан прелом те зоне, који још називамо 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лесов прел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F33F-DE64-4318-A8A9-9917641DFC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имптоми и знаци прелома радијуса на типичном месту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ва бола у пределу доњег дела подлактице и зглоба руч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в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ограниченост покрета у зглобу руч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оји деформитет у виду бајонета подлактице када се рука гледа спре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едано са стране, деформитет је у виду виљуш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релативне близине тетива и неуроваскуларних елемената, могуће су компликације повреда, нарочито код померања коштаних фраг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037-D31E-4537-8965-1823623153F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јагноз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довољна да се посумња на ово ста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ребно је начинити рендгенски снима подлактице са зглобом ручја у два правца како би се дијагноза дефинитивно потврди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7D4-E1C9-45D9-8397-09CFBF3FDB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Подела према дислокацији фрагмената прело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D3B9-BF8F-48E7-A7C6-32CD21255A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латус – померање у стра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аксим - промена осовине (ангула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лонгитудинем - померање по дужи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д перифериам – померање по обод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 се спроводи успостављањем анатомског односа измедју костију (репозиција) са гипсаном имобилизацијом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лечењ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E05B-6D6E-454C-A047-70818DFB53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58c"/>
                </a:solidFill>
                <a:latin typeface="Tahoma"/>
              </a:rPr>
              <a:t>Преломи ручног зглоба и шаке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и шак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176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азумевају се сви преломи дистално од крајњег дела подлактних ко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е се према анатомској локализацији припадајућих ко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подела односи н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реломе у подручју карп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реломе у подручју метакарпус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реломи прст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0B3-83B3-4242-B4D7-9FBAE96783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костију карп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је преломом захваћен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кафоидна кос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фоидна кост може бити захваћена преломом на свим својим деловима, а обично се ради о комплетном попречном прело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16E2-DBF7-4147-9059-A505D5893D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 податак о паду на шаку и болност у подручју ручнога зглоба, постоји и оток изнад скафоидне кости, али и подручја целог карпуса као и отежано и болни покрети, а посебно дорзална флексија која је практично неизводљива због бол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FB35-0CE7-4F7F-8183-DB0FF3F67F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Бенетов прело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0912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д посебног је клиничког значења прелом базе прве метакарпалне кости (палац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ав се прелом назива и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Бенетов прел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Он настаје при паду на руку с палцем у абдукц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E019-0DC2-4BC2-9FE2-041DB4B1B7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ка болност у подручју базе прве метакарпалне кости уз о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 и поремећај функције палца, знакови су који упућују на Бенетов прел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ијагност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Лечењ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зервативно. Имобилизација траје 4–5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04B0-9EED-4E0E-9012-09B0F66C7F2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еломи прстиј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2120" y="19051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прстију најчешће настају деловањем директне силе на прсте (ударац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одраслих особа најчешћи је узрок повреда на послу, док је код деце игра са лоп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ликујемо попречне, косе и спиралне преломне лин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F3C2-7CCF-42A2-8986-3FFC4DFF78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линичка слика, дијагностика, лече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ст је болан, натечен и често деформисан. Сви су покрети лимитирани  и бол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имо углавном конзерватив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обилизација прста траје 3–4 недељ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D847-7EF0-42AC-842F-DD3F762489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атолошк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Креп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Губитак функ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C4D-BFE7-4728-A783-714FF0B8AB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и знаци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ност на палпацију и/или при покр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мена боје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њење или потпуни испад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 уздужне ос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толошк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репитације улома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26B-FF21-47E1-A38F-719589434E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реглед болесника са сумњом на прело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рел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- сигурни и несигурни зна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цинтиграфија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7FC5-32AC-4868-ACF2-1FDEE092D3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09:04:41Z</dcterms:modified>
  <cp:revision>1092</cp:revision>
  <dc:subject/>
  <dc:title>Rehabilitacija traumatoloških bolesnika</dc:title>
</cp:coreProperties>
</file>